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2BF6-304C-4783-9736-365019119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4A8F-3B22-4741-BF12-1DA502D9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99F7-C94B-4075-BBF4-45604D771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FA2C-663E-4925-92A9-0B3EFFC42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4102-7186-42D9-B128-C9F96DBC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BED1-1AE1-4EF8-B85E-D3B4DFEB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858D-5F4A-4647-8889-543387A3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6620-A979-476D-AAF8-28A2C349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F4D8-9BF4-46F3-AEB3-D10F08BC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6202-6DD3-48B9-9F93-770DD607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EA95-E4BF-420E-9E1C-6FAEFD06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D9B2-2594-47D5-B86D-C6A6B944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5BD5-5615-4492-8EB2-B98E08AC2E1A}" type="slidenum">
              <a:rPr b="0" lang="zh-TW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BenQ Confidential Tuesday, February 07, 200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8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9.wmf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Jerry – DL Support</a:t>
            </a:r>
            <a:endParaRPr b="1" lang="en-US" sz="48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5602320" cy="157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Allan Han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BML BenQ PHE AAL RD D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Wednesday, February 08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ff"/>
                </a:solidFill>
                <a:latin typeface="Minion"/>
              </a:rPr>
              <a:t>Integration Management - approach</a:t>
            </a:r>
            <a:endParaRPr b="1" lang="en-US" sz="28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Facts: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Minion"/>
              </a:rPr>
              <a:t>Stabil Aries SW</a:t>
            </a: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Minion"/>
              </a:rPr>
              <a:t>Very short term development time</a:t>
            </a: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Consequence: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Minion"/>
              </a:rPr>
              <a:t>Stabilisation and protection of the SW MUST be managed and controlled through out the whole development cyckle  </a:t>
            </a: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Minion"/>
              </a:rPr>
              <a:t>Strict planning of integration points</a:t>
            </a:r>
            <a:endParaRPr b="0" lang="en-US" sz="16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Minion"/>
              </a:rPr>
              <a:t>Filtering sw maturity deliverires (Qualitity gates, tests) </a:t>
            </a:r>
            <a:endParaRPr b="0" lang="en-US" sz="16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Minion"/>
              </a:rPr>
              <a:t>Non-immediate workflow</a:t>
            </a:r>
            <a:endParaRPr b="0" lang="en-US" sz="16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Minion"/>
              </a:rPr>
              <a:t>Incremental integration sequence (layer dependancies)</a:t>
            </a: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Minion"/>
              </a:rPr>
              <a:t>Release Management: </a:t>
            </a: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Minion"/>
              </a:rPr>
              <a:t>Iterative process with main release every second week, bugfix follow the week after</a:t>
            </a:r>
            <a:endParaRPr b="0" lang="en-US" sz="16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Minion"/>
              </a:rPr>
              <a:t>ClearQuest bug tracing from the start</a:t>
            </a: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Minion"/>
              </a:rPr>
              <a:t>All development on one DB</a:t>
            </a: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Minion"/>
              </a:rPr>
              <a:t>Seek to avoid distributed development</a:t>
            </a: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Minion"/>
              </a:rPr>
              <a:t>SCRUM approach (i.e. target for next release etc.)</a:t>
            </a: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Integration Management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ff"/>
                </a:solidFill>
                <a:latin typeface="Minion"/>
              </a:rPr>
              <a:t>Status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Minion"/>
              </a:rPr>
              <a:t>IDB in BEI with Aries SVN 25</a:t>
            </a:r>
            <a:endParaRPr b="0" lang="en-US" sz="2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Minion"/>
              </a:rPr>
              <a:t>CDB in AAL in sync 09.02.2006</a:t>
            </a:r>
            <a:endParaRPr b="0" lang="en-US" sz="2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Minion"/>
              </a:rPr>
              <a:t>Workflow TBD in workshop</a:t>
            </a:r>
            <a:endParaRPr b="0" lang="en-US" sz="28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Definition of a SW packages from SISL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Sneak preview from PSE/STSL/SISL 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Release Management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Tracking team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Minion"/>
              </a:rPr>
              <a:t>OTC (Official Tool Chain) TBC</a:t>
            </a:r>
            <a:endParaRPr b="0" lang="en-US" sz="28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Production tooling (Lauterbach, winswup, bfc, etc.)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Minion"/>
              </a:rPr>
              <a:t>DL support </a:t>
            </a:r>
            <a:endParaRPr b="0" lang="en-US" sz="2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Project organization 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DL working area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Workareas/packages - TBC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Risk’s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Milestones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Minion"/>
              </a:rPr>
              <a:t>Integration Management support</a:t>
            </a:r>
            <a:endParaRPr b="0" lang="en-US" sz="2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Project organization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IM/BM/CM approach - TBD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Current status 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....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Project organization - Device Layer 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1108080"/>
          <a:ext cx="9144000" cy="51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8080"/>
                    <a:ext cx="9144000" cy="51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AAL DL Support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0" y="2951280"/>
            <a:ext cx="4284720" cy="3790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84600" y="166680"/>
            <a:ext cx="1339920" cy="1374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84600" y="166680"/>
            <a:ext cx="1339920" cy="13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16240" y="665280"/>
            <a:ext cx="4593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N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08880" y="169920"/>
            <a:ext cx="1216080" cy="619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08880" y="169920"/>
            <a:ext cx="1216080" cy="619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711920" y="304920"/>
            <a:ext cx="916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527960" y="878040"/>
            <a:ext cx="426960" cy="136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27960" y="878040"/>
            <a:ext cx="426960" cy="136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27960" y="1014480"/>
            <a:ext cx="1238040" cy="525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27960" y="1014480"/>
            <a:ext cx="1238040" cy="525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709760" y="1096920"/>
            <a:ext cx="81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84600" y="1604880"/>
            <a:ext cx="4222800" cy="6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84600" y="1604880"/>
            <a:ext cx="422280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22840" y="1824120"/>
            <a:ext cx="2455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 Engines an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84600" y="2333520"/>
            <a:ext cx="4222800" cy="594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84600" y="2352600"/>
            <a:ext cx="4222800" cy="59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0480" y="2530440"/>
            <a:ext cx="142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Peripheral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07040" y="169920"/>
            <a:ext cx="1258920" cy="1369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07040" y="169920"/>
            <a:ext cx="1258920" cy="136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66760" y="665280"/>
            <a:ext cx="5097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Raw 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24760" y="907920"/>
            <a:ext cx="779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SI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B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56000" y="2492280"/>
            <a:ext cx="4608720" cy="424980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56000" y="115920"/>
            <a:ext cx="4608720" cy="165744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56000" y="1484280"/>
            <a:ext cx="4608720" cy="122400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DL Workareas/packages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941480" y="5540400"/>
          <a:ext cx="914400" cy="71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1480" y="55404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876400" y="5540400"/>
          <a:ext cx="9144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6400" y="55404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3884760" y="5540400"/>
          <a:ext cx="914400" cy="714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4760" y="55404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4821120" y="5535720"/>
          <a:ext cx="914400" cy="7142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21120" y="553572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1900440" y="5157720"/>
            <a:ext cx="501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Steckbreif   Styleguide        UE          Featurelist    dHW del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829480" y="5540400"/>
          <a:ext cx="914400" cy="7142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29480" y="55404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" descr=""/>
          <p:cNvPicPr/>
          <p:nvPr/>
        </p:nvPicPr>
        <p:blipFill>
          <a:blip r:embed="rId11"/>
          <a:stretch/>
        </p:blipFill>
        <p:spPr>
          <a:xfrm>
            <a:off x="324000" y="1197000"/>
            <a:ext cx="829620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Risks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09964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Milestones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82580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0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03/02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0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8/02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1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4/03-06 A1/B1 + DL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15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8/04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2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7/05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25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2/06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4360" y="3213000"/>
            <a:ext cx="7095960" cy="3281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861080" y="981000"/>
            <a:ext cx="367164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S3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4/08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AS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4/08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S3-HW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7/08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PS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01/09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DS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5/09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3/S4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09/10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Jerry – IM Support</a:t>
            </a:r>
            <a:endParaRPr b="1" lang="en-US" sz="4800" spc="-1" strike="noStrike">
              <a:solidFill>
                <a:srgbClr val="ffffff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Integration Management support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79280" y="1052640"/>
          <a:ext cx="40766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2640"/>
                    <a:ext cx="4076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924360" y="3573360"/>
          <a:ext cx="4437000" cy="297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573360"/>
                    <a:ext cx="4437000" cy="29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6:09:31Z</dcterms:created>
  <dc:creator>BMLaha</dc:creator>
  <dc:description/>
  <dc:language>en-US</dc:language>
  <cp:lastModifiedBy>BMLaha</cp:lastModifiedBy>
  <dcterms:modified xsi:type="dcterms:W3CDTF">2006-02-08T14:53:46Z</dcterms:modified>
  <cp:revision>58</cp:revision>
  <dc:subject/>
  <dc:title>Jerry - DL</dc:title>
</cp:coreProperties>
</file>